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1DB-E45C-4A3F-813F-7FE910D8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83F-1312-492F-8DE9-3BDC60C0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666AF-5506-42C8-9CED-2ECAB1CA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2701C-0458-45C3-AE7E-6B5A193A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74F31-CD69-4D83-A7EF-AA54A1BB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2D914-1D0A-442D-8BFA-00B8CDAD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050E7-8B76-432A-B368-36C23E69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41074-8532-49F7-8B94-02DFEA19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84761-3D9F-474E-9964-6816BB03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FD2F6-E3E9-45C5-85A2-F6BE7500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464C2-2B50-4F12-A5C0-81B1FACC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CF7AB-6F50-44AB-BF9F-D120F9E3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90C-5C09-43B0-9CA4-ADDE8B4E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EB5BF-A9AD-4913-8182-4396F524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6C279-B949-4647-9871-200193F9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FD015-D227-4BEA-8914-8993B936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A15F6-426F-4212-86D6-DF5F37B0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D5F3F-D9D6-4AF6-B010-2E84EDB9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FDD1F-F56E-420E-9CA6-5ADE9813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136C6-D189-4ED9-BD0E-6EBC736E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81E08-A1C7-487B-BAE6-587C2FCC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886DA-7C53-44D9-BF6B-95B54E88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22200-F017-4AAE-BCD1-96C0DE96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CD2-B015-47B1-873F-07D617DA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F3EDB-97A8-4CF1-989B-53583865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FB347-016E-44D7-916A-377F786E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87DAC-D2E1-4843-B33B-E10CB30C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1D320-89A9-4389-A52A-C843D693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B08D5-E325-41B9-9300-5FD197A4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E799F-C923-4603-92F9-EEAC6A79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EB313-AC50-452F-A15D-80354862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FD669-1171-4631-9302-3DFDE64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B9205-5DA5-4F32-BA75-D1911B00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02BDE-0E29-411C-850B-FABBF6A0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DCB2-E5E4-40CC-9F85-1FB6F24F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89CC6-6D87-4F64-821E-428A96D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6A95-8ED7-4466-A914-1B9FF3B0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3EAB0-DB30-41EE-B540-BA634EF4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3F1D5-06C2-4BE4-91AB-93820149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0D8A2-572D-4EF4-AB5D-91C22F02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F2E29-E1A5-491C-B07B-73537155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87F50-CD71-4BCE-8058-80150966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FE604-E5C0-487E-81E5-7C53DD75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5EECE-B725-4905-8CBA-95FDC1A2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C70AE-A12A-41BE-A947-1B424EFD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612C-54DB-42D9-807C-D6EACDFF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419F7-8F5C-4A2B-BB5F-1652098B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09E74-6E1B-4F6D-9E7E-3A1BA3C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131AE-AA48-48CE-AA56-812120F8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50228-8C8D-4FDE-9762-283F1D57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D36E4-8EDE-45AD-A9A7-21BF3481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29DBD-83B0-4FC8-A064-2D9DBA10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70578-A9F5-46BE-927A-C9C086A9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4E5E1-570C-4493-802B-C3A9FE2B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4062F-DAFD-4C45-917D-D0362EC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D9027-EBD2-450D-9560-5AFADEF8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16FF-4002-4F85-A7F7-9F38D039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944BE-93F1-4EE2-81E9-68588D52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5AC70-C028-44B5-9F5B-8EEB72A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1E969-E65E-468C-B2A8-A3938C59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6FF60-E703-4467-AEC3-FB6A4691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C3C5D-9F41-4DBD-8EBD-1E70F3EB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82110-B358-4644-8233-AF2F05E4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3B440-B232-469E-846A-C2228ECD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0CD44-00FA-4A48-8C16-C13BF2DF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0C373-8A73-432E-A285-E2F3BA10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CE85A-DD90-4E5F-924B-67665370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5466-D7A1-4BC6-AD99-E376BFE5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FB840-C46F-4749-BF07-6BCDB846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307F5-A6D2-4E62-AF34-19D6343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0947F-8CD3-4E01-AD23-EF6202B2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D46D3-3349-4D0B-BDDB-AEA4A9E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33B90-B96C-439A-910B-E6BE86D4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38C26-B883-4B88-B01A-8D3E7CEF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2CAD1-D7C0-47DC-9C6B-9B1BBC93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A1D28-A1BB-43E0-8411-0B5157FB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6AFDE-47B9-496B-B247-ADAC45B5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20D5B-C5FF-40F6-B52D-36652AE9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89F5-5AD9-4830-8BF2-C40DF244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95656-F5B7-449F-B165-618A3C48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8FEA7-93A9-4DA9-BFFB-23F2079E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E50EB-F6E3-40D6-982D-F430D7A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66970-1793-4F0F-B60F-589E32EB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C873A-F075-47D8-B360-1391C2AD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2A198-3D5E-42E5-9AF6-E23CDFA6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75066-07AD-42B8-9574-94AFEBDE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8EC52-79C6-4806-BC79-B3FE1FF8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5AE6B-1303-41FA-8CB7-F354A61E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FD089-7B6F-4DBE-A9D5-123F3681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B56B-166E-44E2-8DFB-F064B7B0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62FF7-968A-4DF7-857D-DFC30202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3438A-7FD1-431B-998B-14D7D50D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489E1B-4A48-413E-BCC8-1637CBF5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1FF62-FFB0-4572-8ABA-8B38091F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6B80AC-06EF-4AE5-A54C-57ECA82D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6C9A2-7A45-45A1-94BB-2ED61218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30173-7011-49D3-B253-260FC221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6FCD1-B58E-4F0F-826B-32B020CE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CEAE6-2112-43E9-B953-F553B33A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E752C-71FD-4176-B701-3D5F0DB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D2D6-A43E-4D8B-A16F-83D37796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CDD59-3674-4DC2-AF72-2BD5810B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859E2-958E-4A98-AE0F-827BC0E3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0DEAF-109C-4760-874C-5B91C7A5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1DE1B9-587E-48F1-B211-4DE1B6C7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B10491-9C46-430B-969A-4202F7CB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10681-02D9-4EF8-9F64-2DBD3684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B06C0-13BF-49DD-8DCB-86F63EC2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550F0-8F7D-4702-B406-9B531757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1A70E-958E-4F28-B212-4D73EE95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F6A36-8613-4D18-8250-EAA55FC9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2C0-4DA2-4DDF-9035-301E544A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F4A0-D05F-4694-ACAA-CC5D376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F06B9-F3A8-4AEA-A967-95579997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CCBEB-45F8-4E48-AD3B-9FDEEBE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30300A-9CE1-4DF3-B490-177448B6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A3F94-DF6A-4838-9A6C-A3679165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ABA11-32A4-42D7-9B85-ABAB3188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322B4-41C8-41F4-A721-7A7136EA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E0FD1-77FF-434B-B5C2-17E5BBDE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2CAA0-E350-46FE-B6AB-77098DA6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A44D2-BDD0-4B1E-AF43-E0EE72A0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7871B-D1D3-4C39-B3DC-15D08A48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5E61-75F4-4655-83A7-B8C3D3E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8643A-1D60-46D1-9C00-B866C7BF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B16AEE-6203-481C-87E9-5AB29B2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3FACC-1C7A-4877-9408-BCBCD210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4B48C-35DF-42BA-B3D3-9CCF9AC7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7568F-1ECD-4638-BD2C-00709BD8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26B94-982C-40BF-A0C4-0DE1098C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793F5-0AD9-4D73-950B-A65604C3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B2D05-7D17-44C1-89DD-9B598101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02E07-C9EF-4FE8-AD9F-9B8EEEBF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C8E60-95E5-4489-901D-41137D1D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9CB2-955A-4F0E-8BFB-520A5D79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39E85-5C47-4BAA-A040-05E15C85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8B3AA-36F5-460A-9B3A-9CB8C674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DE889-F796-4D05-84A6-C5AB3866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824B6-292D-4E40-B9E7-0F3D1A3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838AB-4B88-4AEA-8A9E-4860437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BC5B0-A44B-443B-8CA1-47D8DF85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F48B3-EA2A-4E13-925C-5554343E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1450E-C1E1-4837-82E9-471D3268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C4A41-F1DF-4531-925A-FCAD987F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2E10F-3F40-4792-A2BE-56A95A72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87F7-B6B4-4A52-B50A-929BFE6B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367D8-7494-4330-8F5F-15B0167B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E6BF1-9894-444A-88CA-EF140015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198A9-5B88-4F81-A86D-CFD02891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FF89F-554C-4679-9327-878007A2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F1867-B36D-4BB4-A1A0-38834DE5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61B6A0-678E-4E01-B6AC-79956E10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8A07B-F867-4B79-A3CF-FFA0A71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765BB-442F-4DA7-92CE-168D01E5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07DF3-3ADC-40AB-B38E-53E0F16C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65C002-AA8F-4D12-9871-DF4BA783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A70E-3E50-4CA9-9D56-8621747C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E00DE8-8746-4280-B0AE-AC64E086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35787D-5D4B-4775-9E6C-38E876DC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FE946-2E8C-45A9-A20E-B0D0755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D2D8FA-0C45-4A92-A54A-4945937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558FB-A9B5-481F-9B65-1D81F50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D0544-FC9C-4EBC-BB06-F2D262CD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AE02F-82A0-4877-A2FD-F0A8523B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1B77E-66C3-469A-8FC2-1AE537C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FA5F6-6D4D-41F7-A482-03699E1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01FE8-5F5A-4D86-A07F-E8D9B34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A267-9929-4EF3-B673-7DD27A98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B3BEBC-0DD9-4FCE-B882-BC0A714A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28AF2-0BC2-4D34-B3B2-43D3A0AC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60FCD-DCD3-450C-9C64-3CE59C6C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05C4-C57E-4235-A66F-6289F4E9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B1EA-8484-4AE6-ABAB-5C144DCD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6C64-8877-4415-8CB6-01F932C0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A079-4542-476C-A226-025227DC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8B0-BE16-442D-B17A-30EC6D90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2848-7F02-4AA7-B78A-4174B3E1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62CE-BA6D-44D4-9691-DFC8EA6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069F7-07DE-45CB-A9E2-5D3CE55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0437-B075-4DC4-ADF9-EED40770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1869-2DC2-4C1C-B575-E946B499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C28E0-C4D4-4202-8824-2829F766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3638-22A4-43E3-A152-A7C2B816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758E-736F-488B-ACE2-1BBE8B5B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AE1EA-0738-4F9B-BB80-6C39205C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CCD2B-1123-4E56-AB9A-832B7A4B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102-848F-4FF6-8CDB-8275E3DF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18DD9-BE30-4B9B-87B3-D1F8FAE2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9529-4C43-4B7D-9487-AFE0487E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B00A8-3BD4-47A7-A562-1BE294DB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7369-47F0-4026-8E18-D4309E2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00A9-3F3E-4671-805B-0685FB8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01B7-5210-4BE1-8472-5A86E6F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557E-35CC-49B3-AB40-26B4174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6B88-52DD-4F34-8C87-1F344D27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DEDE-D487-4F67-B318-F949A92B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72C09-06CF-4F34-A025-E7FBB6C4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066-5726-41C2-9858-82A5C3A7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CEBD-1CC6-438A-A61F-B4D3ECF7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9F8E-98C3-4F7A-8F2D-B5F395F6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8672-D8C2-4DDA-9761-2FC1CC9F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64210-7C81-4718-8B1F-E282854A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ECB15-E5CE-4BB6-B6C3-9A2C7BEE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8E9E6-5594-48C9-80DC-C31408B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F125-3752-4A13-AFB0-5E23C8ED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8189C-C6C7-4920-A06A-5B4BFC18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6AE42-EA53-4359-B68C-5D1B96C5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6610D-1A9C-4095-927B-5910E416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E8D-B9D3-40A5-AFF5-1B2CE4FB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2F834-9BE3-4F5E-860A-C2418974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4CD2E-2931-46ED-9ECB-DB1F9E61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81354-0DE0-4937-9718-A79C136D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02C6-709B-476E-9FE6-103A5142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84601-8C9C-451F-9B94-59155D16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0629-2B12-4301-A05F-4AB343EA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BAD15-9C89-43CF-8052-08B93D07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0E4C2-DED5-46F0-A9F9-E7590E0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2075E-FDB5-4BC7-BD00-4E989E22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75B61-197A-46B9-BADC-C251371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07C-093D-4CAD-8C83-A16AA95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092F-8AC6-480C-9E2D-E5E98198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EF456-6C58-4252-8C2F-8D87F42A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42741-9489-402E-8951-0BE60EEB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674E7-FE04-4566-B4B3-6C945DFB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8B3BB-2CC0-47C1-83F5-610F30F0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CF060-633F-41E0-BA2D-B91DEDC8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106D5-A537-4842-86D1-F35970F3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5EDC8-39C1-4650-ABD3-AB77D629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AF5FF-EB3F-4393-8D46-C412FD9A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91710-163F-4B83-A3EF-776BF99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AC4-381E-42BE-86D5-68ED187C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209A1-1C3F-44F9-9476-B2DEE6F2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49BA0-BD2A-4965-803B-F457262F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6C88F-0F28-4947-843A-48C2B45D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3DF03-6CE8-4BA2-9D49-8A814345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E56CF-1FBB-4BF3-8264-87C44686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650C0-065E-4659-966A-C1617735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82D8C-6189-475D-BC80-EAAD4C53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608B6-CF74-4A26-A0E2-33892009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931FC-9D3A-49E0-B2F9-A43D5608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89F8E-F348-4BAC-BF2A-A0EF1D4E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331-599E-48EC-832F-0C22BA8F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867E0-9FF4-45DC-811A-7EDE4DDE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57288-E2CA-4C30-A9B0-7831149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96F4C-0B6E-4CD2-87D9-F438C60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B1AB-D020-4ED0-AC82-F54B6EA6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50B1-B1FB-4A00-8C3D-D91A380C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C53BF-4676-4D12-B135-8259CAC0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D39CF-F42D-4052-8817-30D8BDAD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C2B61-3E00-4576-8596-0BE8B6B8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4BC53-314B-4777-A59B-6084EC22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61765-F1B5-4EA3-9828-DAC6670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C08E-7F12-4E0F-A1CA-A518074D5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61BF-69FD-4436-BABD-2BE2B664B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331E-D97C-4BC2-83B0-DADDFF5187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167F-6CEB-4A82-9C6D-B3C3FAC85C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8D66-A6FD-42F6-B12D-F61A011F85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A299-C914-4CB1-A2C7-6107F1F041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1A54-5478-4A25-AD43-2178F07E0D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E90A-8EDC-40B5-912A-9875AC720B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B001-E984-4ED2-8C6A-1C5DD7886B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4316-823A-45E9-9C88-6DBE21E255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3721-87E8-40E2-BC48-F296D62BD4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9C8D-334D-42F7-A238-2471C10E4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8AE8-2D06-436C-98EF-11057AA04A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1B07-A797-46CE-A504-3EE3E525D2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5778-8CB5-4B3E-A54D-61A68D6AAA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64D-CD4A-452D-B80F-C41B25C910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AE0F-8378-4DCB-8CCB-C7EB66697C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9CCE-74DB-43E8-9E61-69598D9C14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1430-60FA-4D6B-A205-89209DA566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D038-8B2E-4D55-9BD3-B311648E90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94E1-5420-40DA-B5AB-B27BD5C8D0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C28-C343-40BF-BEDB-B6A0A4C0BC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45B1-9956-47E0-A36F-306803D820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4497-F800-4212-ADE6-6D5B61A96B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C22C-9434-4ABC-9551-F47D8E071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91DC-59DD-4408-B873-903DEC4257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A03E-253F-4D77-9D84-26DE7C113A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7327-BCE1-45AA-9D94-ACB57C829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00BE-B7D7-41AF-B9FD-7C34E1839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29B1-1E2E-46A2-925B-35F4CF2303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3856-C6CB-43E1-AA6B-DC8D657413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A431-9B3C-4F51-959D-93C76DBA42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E014-639A-44A4-B11C-F376254C24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4F09-DE21-4048-9C8E-945FF3E63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93A2-40DE-47FB-B165-1C7DAFF65B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6951-0D51-4408-8BE0-50374363CF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96B5-DE29-4EED-B4E8-05D8A76114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CAE1-BCC8-45F5-BFA6-4661016A42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6D6-4560-4A10-AB38-673FE847C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7AD0-AB0B-42C5-976F-81B285A85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239840" y="2130480"/>
            <a:ext cx="6632640" cy="7221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2"/>
          <a:stretch/>
        </p:blipFill>
        <p:spPr>
          <a:xfrm>
            <a:off x="684360" y="3643200"/>
            <a:ext cx="786924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776160" y="1014480"/>
            <a:ext cx="7591680" cy="54388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3"/>
          <a:stretch/>
        </p:blipFill>
        <p:spPr>
          <a:xfrm>
            <a:off x="6804000" y="3645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4"/>
          <a:stretch/>
        </p:blipFill>
        <p:spPr>
          <a:xfrm>
            <a:off x="2627280" y="6014880"/>
            <a:ext cx="432000" cy="438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5"/>
          <a:stretch/>
        </p:blipFill>
        <p:spPr>
          <a:xfrm>
            <a:off x="6732720" y="6014880"/>
            <a:ext cx="4316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471600" y="765000"/>
            <a:ext cx="8200800" cy="6000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1763640" y="4508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1763640" y="623736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905040" y="846000"/>
            <a:ext cx="7333920" cy="58960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1403280" y="1550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1403280" y="32781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1403280" y="57276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47560" y="706320"/>
            <a:ext cx="8048880" cy="49244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" descr=""/>
          <p:cNvPicPr/>
          <p:nvPr/>
        </p:nvPicPr>
        <p:blipFill>
          <a:blip r:embed="rId2"/>
          <a:stretch/>
        </p:blipFill>
        <p:spPr>
          <a:xfrm>
            <a:off x="1300320" y="5762520"/>
            <a:ext cx="7267320" cy="1095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1763640" y="32781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1763640" y="3927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5"/>
          <a:stretch/>
        </p:blipFill>
        <p:spPr>
          <a:xfrm>
            <a:off x="1763640" y="5084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6"/>
          <a:stretch/>
        </p:blipFill>
        <p:spPr>
          <a:xfrm>
            <a:off x="1763640" y="57992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528480" y="1019160"/>
            <a:ext cx="8087040" cy="5505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3"/>
          <a:stretch/>
        </p:blipFill>
        <p:spPr>
          <a:xfrm>
            <a:off x="7370640" y="263052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4"/>
          <a:stretch/>
        </p:blipFill>
        <p:spPr>
          <a:xfrm>
            <a:off x="1692360" y="318276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5"/>
          <a:stretch/>
        </p:blipFill>
        <p:spPr>
          <a:xfrm>
            <a:off x="7297560" y="411156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6"/>
          <a:stretch/>
        </p:blipFill>
        <p:spPr>
          <a:xfrm>
            <a:off x="1692360" y="5033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7"/>
          <a:stretch/>
        </p:blipFill>
        <p:spPr>
          <a:xfrm>
            <a:off x="7297560" y="5964120"/>
            <a:ext cx="1008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519120" y="846000"/>
            <a:ext cx="8105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662040" y="907920"/>
            <a:ext cx="7819920" cy="57247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433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833400" y="1643040"/>
            <a:ext cx="7477200" cy="35719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2"/>
          <a:stretch/>
        </p:blipFill>
        <p:spPr>
          <a:xfrm>
            <a:off x="1403280" y="1695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3"/>
          <a:stretch/>
        </p:blipFill>
        <p:spPr>
          <a:xfrm>
            <a:off x="1403280" y="28465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4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